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016-3795-4F90-993E-B356C949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392-C40D-4158-B753-81E4874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C55-DA90-4D56-A746-1D675E68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917-FB34-4905-8594-BA9D3658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9BCB-ED26-4A52-861B-B32FCF01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C9D-9F35-4239-B1A6-548AA05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8C92-97D3-47B3-B961-EA382963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9B95-ED3D-4A50-BA6F-1F5A934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8965-8009-4FEF-AC27-889BC5A4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09B1-73C4-4802-804F-AF14C56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848-40D4-4E88-A2C5-F38A62D8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EAD-B6EB-43E5-AE61-306F0A6A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172E-CFB5-4816-B508-4956104D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26B-DE07-4888-9136-63D71BA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A4B5-85DE-447F-88CA-BA3434F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B6D9-CB5A-4B40-A1D7-C63B471F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F11E-2F67-4E93-A0B1-D2FCDEDB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88E-CB7B-4782-8A64-3097C37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01D-15E7-4524-91ED-92900C46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1BE-5E27-40EC-92BC-13B117C5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44D-C2F2-4716-812D-39650F2B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700-E7E2-42D6-867B-CE87005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F8F-B4DC-454F-8C06-C3E44FD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8A3-56E4-48B5-9F33-817F276D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E915-A7D3-436D-B242-710755F3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C56-731D-4EB4-B397-C096B3059D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rine-atlantic.c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 9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9352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700" spc="-1" strike="noStrike">
                <a:solidFill>
                  <a:srgbClr val="ffffcc"/>
                </a:solidFill>
                <a:latin typeface="Arial"/>
              </a:rPr>
              <a:t>Pricing:  Building a Price Foundat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Verdana"/>
              </a:rPr>
              <a:t>Chapter 1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Verdana"/>
              </a:rPr>
              <a:t>Marketing 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aeaea"/>
                </a:solidFill>
                <a:latin typeface="Verdana"/>
              </a:rPr>
              <a:t>MR2100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733920" y="3429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  cont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Constrains establish the upper and lower bound for a price that can be charged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Where &amp; how a product is priced within that lower and upper bound depends on the Objectives of the organiz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  cont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various objectives that an organization has in order to set its prices depend on several factor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wanting to maximize profi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wanting to maximize Sales revenu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maximize Market shar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sell a lot of produc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maximize consumer valu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re they trying to be socially responsibl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Or, finally are they just trying to survive?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Demand for a product is a function of two major types of thing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1) The price of the product -- Usually the higher the price the lower the deman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2) Factors other than price, such as consumer tastes, consumer income or the availability and price of other similar or substitutable produc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A Demand Schedule and a Demand Curve reflecting quantity demanded at different  price levels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990720" y="2819520"/>
          <a:ext cx="320040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200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495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A Demand Schedule and a Demand Curve reflecting a shift in the demand curve brought about by a change in quantity demanded because of non price changes. Assume that the product becomes “trendy”.  Relative qty. demanded at any given price point goes up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685800" y="4114800"/>
          <a:ext cx="388620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86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10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7010280" y="2514600"/>
            <a:ext cx="1676520" cy="2209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6553080" y="2895120"/>
            <a:ext cx="45720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7543800" y="4114440"/>
            <a:ext cx="457200" cy="30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5720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6400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ine shifts r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2; Estimate Demand and Project Revenue at that dem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erms to Know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tal reven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verage reven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arginal revenu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lasticity of dem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ARGINAL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way an organization can determine whether it is maximizing its potential profit is to calculate its marginal costs and marginal revenues from one level of output to the nex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When marginal costs equal marginal revenue (MR=MC) stop producing/selling any more  (Why?: It costs as much to make that extra unit as the extra revenue selling that unit will bring in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REAK EVEN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is determines the level of production/sales required in order for a company to stop loosing money,  break-even and start making mone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calculate the break even point (in units) you ne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OTAL FIXED CO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UNIT VARIABLE COST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LLING PRICE PER UNI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REAK EVEN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Break Even Point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=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en-GB" sz="2800" spc="-1" strike="noStrike" u="sng">
                <a:solidFill>
                  <a:srgbClr val="eaeaea"/>
                </a:solidFill>
                <a:uFillTx/>
                <a:latin typeface="Verdana"/>
              </a:rPr>
              <a:t>Fixed Cos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(Selling Price per unit  - Unit Variable cost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3 - Determine a cost-profit, cost -volume relationshi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REAK EVEN CHA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371600" y="2895480"/>
            <a:ext cx="0" cy="289584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371600" y="5715000"/>
            <a:ext cx="739152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295280" y="5029200"/>
            <a:ext cx="6096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1371600" y="2819520"/>
            <a:ext cx="7086600" cy="2209680"/>
          </a:xfrm>
          <a:prstGeom prst="line">
            <a:avLst/>
          </a:prstGeom>
          <a:ln w="5724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013360" y="2743200"/>
            <a:ext cx="19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tal Cost li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18280" y="461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ixed Cost Li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172200" y="3774960"/>
            <a:ext cx="35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ar. Cost Compon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1371600" y="5029200"/>
            <a:ext cx="7391520" cy="6858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5053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ixed Cost Compon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7621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3434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much should it cos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es Marine Atlantic arrive at the cost of a ticket to take the Ferry from NL to N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4" descr="route_map"/>
          <p:cNvPicPr/>
          <p:nvPr/>
        </p:nvPicPr>
        <p:blipFill>
          <a:blip r:embed="rId1"/>
          <a:stretch/>
        </p:blipFill>
        <p:spPr>
          <a:xfrm>
            <a:off x="1447920" y="3124080"/>
            <a:ext cx="1724040" cy="155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VCaribo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800600"/>
            <a:ext cx="342900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05520" y="3200400"/>
            <a:ext cx="3352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Factors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ag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frastructure - Ships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u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sura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bsid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flati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are 4 basic methods used to set an approximate price leve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Demand Based Method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st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ofit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mpetitive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Demand Based Method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The price that is picked is set based on the projected demand for the product.  Specific strategies include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Skimming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High price -low volum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Penetration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lower price-high volume)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Prestige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imilar to skimming with snob appea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Verdana"/>
              </a:rPr>
              <a:t>Demand Based Methods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 (cont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Price lin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Offering different models with different pric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Odd-even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etting prices with odd numbers $499.99 sounds &amp; feels better than $500.00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Demand Backward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Predict sales, set Total revenue target  take total revenue/sales in units = pric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Bundle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Offering a bundle of complementary products for a single package price - vacation pack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Value-Based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Increase benefits offered for a same or lower pric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st Based Method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The price is set based on the approximated cost of bringing the product to marke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Mark up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 The cost of the product is the basis for which the price calculation is base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tandard Mark up  &amp; Cost Plus pricing add a fixed percentage or a fixed amount to the cost to arrive at a pri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Experience Curve Pricing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 As you get better at making products the time and cost to make each one is reduced -- therefore the price can be reduce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ofit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arget Profit Pricing (see calculations in text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arget Return on S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arget Return on Investment Pri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4 - Selecting an Approximate Price Lev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Competition Based Metho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Customary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Charge a price that is the “usual” price in the industry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Above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-Below Market Price (Charge a price that differs from the indust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Loss-Leader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ell a promoted item at a loss or low price -- the intent is to attract customers to buy this product and in the process they will buy other regular priced item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Sealed Bid Pric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Same as a “Tender” - Suppliers are invited to bid to supply specified product(s) and the lowest bid price wins the dea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5 - Set a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ased on all of the analysis done thus far in the process a “List” price can be determined.  The list price is a suggested price and may not truly reflect the price charged to all custome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ustomer, Company and Competitive factors may come into play in determining whether or not a company deviates from its list pri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pecial Adjustments to the List or Quoted Pric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iscou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llowa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Geographical Adjustm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iscounts - reductions in the list price based on some of the following reas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Quant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asonal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aying Cas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llowances - An effective reduction in the unit price based on some of the following reas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 trade in allow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 promotional allow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ice is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Verdana"/>
              </a:rPr>
              <a:t>The money or other consideration exchange for ownership or use of a good or servic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6 - Adjustments to the List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Geographical Adjustments - an effective reduction or increase in the unit list price because of your geographical location relative to the suppli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Free-on-Board (FOB) pric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They will put it on the truck but you pay for the shipping cos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Uniform Delivery pric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 Price is the same wherever you live -- the supplier pays the shipp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Legal Aspects of Setting Pri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ice fix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several suppliers colluding to raise prices - illeg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Price Discrimin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Charging one price to one customer and another price to another for no reason - illeg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Deceptive Pricing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 Falsifying the true price of the item - deceiving the customer - illeg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See Figure 14.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ice &amp; Value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rice is a fixed ter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Value is a relative term that is measured by the consumer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Value is the ratio of perceived benefits offered to price charged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ice is made up of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ticker (list) pri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iscounts offered  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(Sales, Mark-downs, Volu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llowances offered 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(Trade in Allowance, case allowanc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lu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axes </a:t>
            </a: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(HST, GST, PS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fit is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otal Revenue (Price x Quantit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l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otal Cost (Fixed Costs + Variable Cost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Steps Involved in 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etting a Pr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1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dentify Pricing Constraints and Objecti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2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stimate Demand and Estimate Revenu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3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termine Cost-Volume and Profit relationsh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4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lect a Approximate Pric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5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elect a list pr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ep 6 --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Make special Adjustments to Quote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r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nstraints are practical limits under which a company must set its price range for a produc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nstraints includ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emand for the actual product, its class of product or the demand for the Brand na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Newness of the product -- where it is in the life cycl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ingle product limits the range of prices that can be charged, whereas a line of products can be offered at different prices depending on the model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MR2100  (c) 2004  Paul Tille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ep 1 - Identify Constraints and Objectives  cont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nstraints include: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cost of making and marketing the produ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costs involved in changing the prices once they are s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type of competitive market that exists.  Little competition means prices can be set by the seller whereas heavy competition means that the market sets the prices and as a result prices will tend to go dow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What other similar products sell for limits the range of price that can be charg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29:51Z</dcterms:created>
  <dc:creator>Debbie Vincent</dc:creator>
  <dc:description/>
  <dc:language>en-US</dc:language>
  <cp:lastModifiedBy>paul.tilley</cp:lastModifiedBy>
  <dcterms:modified xsi:type="dcterms:W3CDTF">2009-02-13T13:51:20Z</dcterms:modified>
  <cp:revision>15</cp:revision>
  <dc:subject/>
  <dc:title>Pricing:  Relating Objectives to revenues and Co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